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ipdn102.wav" ContentType="audio/x-wav"/>
  <Override PartName="/ppt/media/PROJCTOR.WAV" ContentType="audio/x-wav"/>
  <Override PartName="/ppt/media/camera.wav" ContentType="audio/x-wav"/>
  <Override PartName="/ppt/media/zapbig0g.wav" ContentType="audio/x-wav"/>
  <Override PartName="/ppt/media/highchime.wav" ContentType="audio/x-wav"/>
  <Override PartName="/ppt/media/hzipup01.wav" ContentType="audio/x-wav"/>
  <Override PartName="/ppt/media/partyhorn.wav" ContentType="audio/x-wav"/>
  <Override PartName="/ppt/media/bserie06.wav" ContentType="audio/x-wav"/>
  <Override PartName="/ppt/media/caralarmoff.wav" ContentType="audio/x-wav"/>
  <Override PartName="/ppt/media/glass.wav" ContentType="audio/x-wav"/>
  <Override PartName="/ppt/media/zipup202.wav" ContentType="audio/x-wav"/>
  <Override PartName="/ppt/media/peopleooo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4084-A503-40CA-9C52-22BAFF50F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8017-1033-4E58-8FC6-328E9884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90A9-D9F9-40C9-A4E7-A1C0A6124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EA57-3D63-451B-8804-DBAD01EAE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B3A6-5D3B-4F7C-8A7D-9343D0F8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1AFF-A4E4-4265-8486-D59FEDCD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4810-282F-4F09-BDF7-4088F77A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E08B-C4DD-46BE-A692-235A00DE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37D2-3981-4D00-832B-6929AAD5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1D14-4B6E-4798-9193-065A2F41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B9CC-419D-41B7-8AF1-A73B21DD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E043-0BDD-4239-B853-20677CEE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4446-6B35-4011-B9D6-3BAA57E24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highchime.wav"/><Relationship Id="rId3" Type="http://schemas.openxmlformats.org/officeDocument/2006/relationships/audio" Target="../media/PROJCTOR.WAV"/><Relationship Id="rId4" Type="http://schemas.openxmlformats.org/officeDocument/2006/relationships/audio" Target="../media/partyhorn.wav"/><Relationship Id="rId5" Type="http://schemas.openxmlformats.org/officeDocument/2006/relationships/audio" Target="../media/bserie06.wav"/><Relationship Id="rId6" Type="http://schemas.openxmlformats.org/officeDocument/2006/relationships/audio" Target="../media/partyhorn.wav"/><Relationship Id="rId7" Type="http://schemas.openxmlformats.org/officeDocument/2006/relationships/audio" Target="../media/caralarmoff.wav"/><Relationship Id="rId8" Type="http://schemas.openxmlformats.org/officeDocument/2006/relationships/audio" Target="../media/partyhorn.wav"/><Relationship Id="rId9" Type="http://schemas.openxmlformats.org/officeDocument/2006/relationships/audio" Target="../media/caralarmoff.wav"/><Relationship Id="rId10" Type="http://schemas.openxmlformats.org/officeDocument/2006/relationships/audio" Target="../media/glass.wav"/><Relationship Id="rId11" Type="http://schemas.openxmlformats.org/officeDocument/2006/relationships/audio" Target="../media/glass.wav"/><Relationship Id="rId12" Type="http://schemas.openxmlformats.org/officeDocument/2006/relationships/audio" Target="../media/zipup202.wav"/><Relationship Id="rId13" Type="http://schemas.openxmlformats.org/officeDocument/2006/relationships/audio" Target="../media/zipup202.wav"/><Relationship Id="rId14" Type="http://schemas.openxmlformats.org/officeDocument/2006/relationships/audio" Target="../media/zipup202.wav"/><Relationship Id="rId15" Type="http://schemas.openxmlformats.org/officeDocument/2006/relationships/audio" Target="../media/zipup202.wav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zapbig0g.wav"/><Relationship Id="rId3" Type="http://schemas.openxmlformats.org/officeDocument/2006/relationships/audio" Target="../media/glass.wav"/><Relationship Id="rId4" Type="http://schemas.openxmlformats.org/officeDocument/2006/relationships/audio" Target="../media/caralarmoff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glass.wav"/><Relationship Id="rId10" Type="http://schemas.openxmlformats.org/officeDocument/2006/relationships/audio" Target="../media/caralarmoff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hzipup01.wav"/><Relationship Id="rId14" Type="http://schemas.openxmlformats.org/officeDocument/2006/relationships/audio" Target="../media/hzipup01.wav"/><Relationship Id="rId15" Type="http://schemas.openxmlformats.org/officeDocument/2006/relationships/audio" Target="../media/glass.wav"/><Relationship Id="rId16" Type="http://schemas.openxmlformats.org/officeDocument/2006/relationships/audio" Target="../media/caralarmoff.wav"/><Relationship Id="rId17" Type="http://schemas.openxmlformats.org/officeDocument/2006/relationships/audio" Target="../media/bserie06.wav"/><Relationship Id="rId18" Type="http://schemas.openxmlformats.org/officeDocument/2006/relationships/audio" Target="../media/bserie06.wav"/><Relationship Id="rId19" Type="http://schemas.openxmlformats.org/officeDocument/2006/relationships/audio" Target="../media/hzipup01.wav"/><Relationship Id="rId20" Type="http://schemas.openxmlformats.org/officeDocument/2006/relationships/audio" Target="../media/hzipup01.wav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zapbig0g.wav"/><Relationship Id="rId3" Type="http://schemas.openxmlformats.org/officeDocument/2006/relationships/audio" Target="../media/glass.wav"/><Relationship Id="rId4" Type="http://schemas.openxmlformats.org/officeDocument/2006/relationships/audio" Target="../media/caralarmoff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glass.wav"/><Relationship Id="rId10" Type="http://schemas.openxmlformats.org/officeDocument/2006/relationships/audio" Target="../media/caralarmoff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hzipup01.wav"/><Relationship Id="rId14" Type="http://schemas.openxmlformats.org/officeDocument/2006/relationships/audio" Target="../media/hzipup01.wav"/><Relationship Id="rId15" Type="http://schemas.openxmlformats.org/officeDocument/2006/relationships/audio" Target="../media/glass.wav"/><Relationship Id="rId16" Type="http://schemas.openxmlformats.org/officeDocument/2006/relationships/audio" Target="../media/caralarmoff.wav"/><Relationship Id="rId17" Type="http://schemas.openxmlformats.org/officeDocument/2006/relationships/audio" Target="../media/bserie06.wav"/><Relationship Id="rId18" Type="http://schemas.openxmlformats.org/officeDocument/2006/relationships/audio" Target="../media/bserie06.wav"/><Relationship Id="rId19" Type="http://schemas.openxmlformats.org/officeDocument/2006/relationships/audio" Target="../media/hzipup01.wav"/><Relationship Id="rId20" Type="http://schemas.openxmlformats.org/officeDocument/2006/relationships/audio" Target="../media/hzipup01.wav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zapbig0g.wav"/><Relationship Id="rId3" Type="http://schemas.openxmlformats.org/officeDocument/2006/relationships/audio" Target="../media/glass.wav"/><Relationship Id="rId4" Type="http://schemas.openxmlformats.org/officeDocument/2006/relationships/audio" Target="../media/caralarmoff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glass.wav"/><Relationship Id="rId10" Type="http://schemas.openxmlformats.org/officeDocument/2006/relationships/audio" Target="../media/caralarmoff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hzipup01.wav"/><Relationship Id="rId14" Type="http://schemas.openxmlformats.org/officeDocument/2006/relationships/audio" Target="../media/hzipup01.wav"/><Relationship Id="rId15" Type="http://schemas.openxmlformats.org/officeDocument/2006/relationships/audio" Target="../media/glass.wav"/><Relationship Id="rId16" Type="http://schemas.openxmlformats.org/officeDocument/2006/relationships/audio" Target="../media/caralarmoff.wav"/><Relationship Id="rId17" Type="http://schemas.openxmlformats.org/officeDocument/2006/relationships/audio" Target="../media/bserie06.wav"/><Relationship Id="rId18" Type="http://schemas.openxmlformats.org/officeDocument/2006/relationships/audio" Target="../media/bserie06.wav"/><Relationship Id="rId19" Type="http://schemas.openxmlformats.org/officeDocument/2006/relationships/audio" Target="../media/hzipup01.wav"/><Relationship Id="rId20" Type="http://schemas.openxmlformats.org/officeDocument/2006/relationships/audio" Target="../media/hzipup01.wav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bserie06.wav"/><Relationship Id="rId3" Type="http://schemas.openxmlformats.org/officeDocument/2006/relationships/audio" Target="../media/glass.wav"/><Relationship Id="rId4" Type="http://schemas.openxmlformats.org/officeDocument/2006/relationships/audio" Target="../media/bserie06.wav"/><Relationship Id="rId5" Type="http://schemas.openxmlformats.org/officeDocument/2006/relationships/audio" Target="../media/glass.wav"/><Relationship Id="rId6" Type="http://schemas.openxmlformats.org/officeDocument/2006/relationships/audio" Target="../media/bserie06.wav"/><Relationship Id="rId7" Type="http://schemas.openxmlformats.org/officeDocument/2006/relationships/audio" Target="../media/glass.wav"/><Relationship Id="rId8" Type="http://schemas.openxmlformats.org/officeDocument/2006/relationships/audio" Target="../media/zapbig0g.wav"/><Relationship Id="rId9" Type="http://schemas.openxmlformats.org/officeDocument/2006/relationships/audio" Target="../media/bserie06.wav"/><Relationship Id="rId10" Type="http://schemas.openxmlformats.org/officeDocument/2006/relationships/audio" Target="../media/glass.wav"/><Relationship Id="rId11" Type="http://schemas.openxmlformats.org/officeDocument/2006/relationships/audio" Target="../media/zapbig0g.wav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zapbig0g.wav"/><Relationship Id="rId3" Type="http://schemas.openxmlformats.org/officeDocument/2006/relationships/audio" Target="../media/glass.wav"/><Relationship Id="rId4" Type="http://schemas.openxmlformats.org/officeDocument/2006/relationships/audio" Target="../media/caralarmoff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caralarmoff.wav"/><Relationship Id="rId10" Type="http://schemas.openxmlformats.org/officeDocument/2006/relationships/audio" Target="../media/caralarmoff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zipup202.wav"/><Relationship Id="rId14" Type="http://schemas.openxmlformats.org/officeDocument/2006/relationships/audio" Target="../media/hzipup01.wav"/><Relationship Id="rId15" Type="http://schemas.openxmlformats.org/officeDocument/2006/relationships/audio" Target="../media/peopleooo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zipup202.wav"/><Relationship Id="rId19" Type="http://schemas.openxmlformats.org/officeDocument/2006/relationships/audio" Target="../media/hzipup01.wav"/><Relationship Id="rId20" Type="http://schemas.openxmlformats.org/officeDocument/2006/relationships/audio" Target="../media/peopleooo.wav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caralarmoff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hzipup01.wav"/><Relationship Id="rId7" Type="http://schemas.openxmlformats.org/officeDocument/2006/relationships/audio" Target="../media/caralarmoff.wav"/><Relationship Id="rId8" Type="http://schemas.openxmlformats.org/officeDocument/2006/relationships/audio" Target="../media/caralarmoff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zipup202.wav"/><Relationship Id="rId12" Type="http://schemas.openxmlformats.org/officeDocument/2006/relationships/audio" Target="../media/hzipup01.wav"/><Relationship Id="rId13" Type="http://schemas.openxmlformats.org/officeDocument/2006/relationships/audio" Target="../media/peopleooo.wav"/><Relationship Id="rId14" Type="http://schemas.openxmlformats.org/officeDocument/2006/relationships/audio" Target="../media/bserie06.wav"/><Relationship Id="rId15" Type="http://schemas.openxmlformats.org/officeDocument/2006/relationships/audio" Target="../media/bserie06.wav"/><Relationship Id="rId16" Type="http://schemas.openxmlformats.org/officeDocument/2006/relationships/audio" Target="../media/zipup202.wav"/><Relationship Id="rId17" Type="http://schemas.openxmlformats.org/officeDocument/2006/relationships/audio" Target="../media/hzipup01.wav"/><Relationship Id="rId18" Type="http://schemas.openxmlformats.org/officeDocument/2006/relationships/audio" Target="../media/peopleooo.wav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caralarmoff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hzipup01.wav"/><Relationship Id="rId7" Type="http://schemas.openxmlformats.org/officeDocument/2006/relationships/audio" Target="../media/caralarmoff.wav"/><Relationship Id="rId8" Type="http://schemas.openxmlformats.org/officeDocument/2006/relationships/audio" Target="../media/caralarmoff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zipup202.wav"/><Relationship Id="rId12" Type="http://schemas.openxmlformats.org/officeDocument/2006/relationships/audio" Target="../media/hzipup01.wav"/><Relationship Id="rId13" Type="http://schemas.openxmlformats.org/officeDocument/2006/relationships/audio" Target="../media/peopleooo.wav"/><Relationship Id="rId14" Type="http://schemas.openxmlformats.org/officeDocument/2006/relationships/audio" Target="../media/bserie06.wav"/><Relationship Id="rId15" Type="http://schemas.openxmlformats.org/officeDocument/2006/relationships/audio" Target="../media/bserie06.wav"/><Relationship Id="rId16" Type="http://schemas.openxmlformats.org/officeDocument/2006/relationships/audio" Target="../media/zipup202.wav"/><Relationship Id="rId17" Type="http://schemas.openxmlformats.org/officeDocument/2006/relationships/audio" Target="../media/hzipup01.wav"/><Relationship Id="rId18" Type="http://schemas.openxmlformats.org/officeDocument/2006/relationships/audio" Target="../media/peopleooo.wav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360" y="852480"/>
            <a:ext cx="8686800" cy="55119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928800"/>
            <a:ext cx="862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ing a Quadratic 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257480" y="2911320"/>
                <a:ext cx="2577960" cy="8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5280120" y="3065400"/>
                <a:ext cx="19605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q</m:t>
                    </m:r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604800" y="1579680"/>
            <a:ext cx="76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To fac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584440" y="1374840"/>
                <a:ext cx="296712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515880" y="1563840"/>
            <a:ext cx="804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                                          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, you need to find numbers </a:t>
            </a:r>
            <a:r>
              <a:rPr b="1" i="1" lang="en-US" sz="3600" spc="-1" strike="noStrike">
                <a:solidFill>
                  <a:srgbClr val="663300"/>
                </a:solidFill>
                <a:latin typeface="Times New Roman"/>
              </a:rPr>
              <a:t>p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nd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663300"/>
                </a:solidFill>
                <a:latin typeface="Times New Roman"/>
              </a:rPr>
              <a:t>q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, such tha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78400" y="301140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2913120" y="3767040"/>
                <a:ext cx="25876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413080" y="4751280"/>
                <a:ext cx="349704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671920" y="4968720"/>
                <a:ext cx="47916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4348080" y="4971960"/>
                <a:ext cx="4795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157560" y="4815000"/>
                <a:ext cx="91116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819680" y="4800600"/>
                <a:ext cx="9111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829040" y="2496960"/>
                <a:ext cx="408636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36680" y="1693800"/>
                <a:ext cx="32097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ing whe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re Po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87280" y="2513160"/>
                <a:ext cx="40863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 the trinom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25320" y="2725560"/>
                <a:ext cx="5605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525760" y="2743200"/>
                <a:ext cx="5605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192640" y="2722680"/>
                <a:ext cx="5605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7175520" y="2727360"/>
                <a:ext cx="56052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163520" y="2575080"/>
                <a:ext cx="10083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070080" y="2556000"/>
                <a:ext cx="10638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684760" y="2587680"/>
                <a:ext cx="10080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7678800" y="2541600"/>
                <a:ext cx="8953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045040" y="1677960"/>
                <a:ext cx="32576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178000" y="4676760"/>
                <a:ext cx="40863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541600" y="4902120"/>
                <a:ext cx="5605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524480" y="4906800"/>
                <a:ext cx="5601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022560" y="4748040"/>
                <a:ext cx="1063800" cy="7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5027760" y="4721400"/>
                <a:ext cx="8953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394000" y="3857760"/>
                <a:ext cx="32576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829040" y="2496960"/>
                <a:ext cx="408636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12920" y="1693800"/>
                <a:ext cx="32572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ing whe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Negative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Po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87280" y="2513160"/>
                <a:ext cx="40863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 the trinom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625320" y="2725560"/>
                <a:ext cx="5605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525760" y="2743200"/>
                <a:ext cx="5605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5192640" y="2722680"/>
                <a:ext cx="5605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175520" y="2727360"/>
                <a:ext cx="56052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163520" y="2571840"/>
                <a:ext cx="10083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154320" y="2556000"/>
                <a:ext cx="8953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684760" y="2587680"/>
                <a:ext cx="10080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639200" y="2541600"/>
                <a:ext cx="10062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064120" y="1677960"/>
                <a:ext cx="34974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178000" y="4676760"/>
                <a:ext cx="40863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541600" y="4902120"/>
                <a:ext cx="5605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524480" y="4906800"/>
                <a:ext cx="5601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3049560" y="4721400"/>
                <a:ext cx="10080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971960" y="4721400"/>
                <a:ext cx="10065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394000" y="3857760"/>
                <a:ext cx="32576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829040" y="2496960"/>
                <a:ext cx="408636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55480" y="1693800"/>
                <a:ext cx="29703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ing whe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re Neg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87280" y="2513160"/>
                <a:ext cx="40863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 the trinom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625320" y="2725560"/>
                <a:ext cx="5605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525760" y="2743200"/>
                <a:ext cx="5605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5192640" y="2722680"/>
                <a:ext cx="5605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7175520" y="2727360"/>
                <a:ext cx="56052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163520" y="2571840"/>
                <a:ext cx="10083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154320" y="2556000"/>
                <a:ext cx="8953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5684760" y="2587680"/>
                <a:ext cx="10080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610400" y="2541600"/>
                <a:ext cx="10638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087880" y="1677960"/>
                <a:ext cx="34495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178000" y="4676760"/>
                <a:ext cx="40863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41600" y="4902120"/>
                <a:ext cx="5605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524480" y="4906800"/>
                <a:ext cx="5601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049560" y="4749840"/>
                <a:ext cx="10080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944960" y="4721400"/>
                <a:ext cx="10620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417760" y="3857760"/>
                <a:ext cx="32097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98360" y="852480"/>
            <a:ext cx="8686800" cy="5511960"/>
            <a:chOff x="198360" y="852480"/>
            <a:chExt cx="8686800" cy="5511960"/>
          </a:xfrm>
        </p:grpSpPr>
        <p:sp>
          <p:nvSpPr>
            <p:cNvPr id="121" name=""/>
            <p:cNvSpPr/>
            <p:nvPr/>
          </p:nvSpPr>
          <p:spPr>
            <a:xfrm>
              <a:off x="198360" y="852480"/>
              <a:ext cx="8686800" cy="551196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8600" y="928800"/>
              <a:ext cx="8626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ypes of Equatio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30080" y="1500120"/>
                <a:ext cx="296712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089240" y="1644480"/>
                <a:ext cx="383256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719280" y="2579760"/>
                <a:ext cx="296676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102200" y="2724120"/>
                <a:ext cx="37846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708120" y="3672000"/>
                <a:ext cx="296712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−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067280" y="3816360"/>
                <a:ext cx="38322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84360" y="4751280"/>
                <a:ext cx="296676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−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043520" y="4896000"/>
                <a:ext cx="38322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31" name=""/>
          <p:cNvGrpSpPr/>
          <p:nvPr/>
        </p:nvGrpSpPr>
        <p:grpSpPr>
          <a:xfrm>
            <a:off x="4346640" y="4269960"/>
            <a:ext cx="2692440" cy="721440"/>
            <a:chOff x="4346640" y="4269960"/>
            <a:chExt cx="2692440" cy="721440"/>
          </a:xfrm>
        </p:grpSpPr>
        <p:sp>
          <p:nvSpPr>
            <p:cNvPr id="132" name=""/>
            <p:cNvSpPr/>
            <p:nvPr/>
          </p:nvSpPr>
          <p:spPr>
            <a:xfrm>
              <a:off x="4346640" y="4410000"/>
              <a:ext cx="2692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00"/>
                  </a:solidFill>
                  <a:latin typeface="Times New Roman"/>
                </a:rPr>
                <a:t>Larger numb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5460840" y="4269960"/>
              <a:ext cx="87480" cy="35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068880" y="5428800"/>
            <a:ext cx="2692440" cy="721440"/>
            <a:chOff x="6068880" y="5428800"/>
            <a:chExt cx="2692440" cy="721440"/>
          </a:xfrm>
        </p:grpSpPr>
        <p:sp>
          <p:nvSpPr>
            <p:cNvPr id="135" name=""/>
            <p:cNvSpPr/>
            <p:nvPr/>
          </p:nvSpPr>
          <p:spPr>
            <a:xfrm>
              <a:off x="6068880" y="5568840"/>
              <a:ext cx="2692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00"/>
                  </a:solidFill>
                  <a:latin typeface="Times New Roman"/>
                </a:rPr>
                <a:t>Larger numb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7183080" y="5428800"/>
              <a:ext cx="87480" cy="35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936720" y="1708200"/>
                <a:ext cx="45511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 Quadratic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971640" y="2527200"/>
                <a:ext cx="509256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the eq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325520" y="2739960"/>
                <a:ext cx="5605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225960" y="2757600"/>
                <a:ext cx="5601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847880" y="2589120"/>
                <a:ext cx="10080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798720" y="2603520"/>
                <a:ext cx="10083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792000" y="3419640"/>
                <a:ext cx="24638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971880" y="3375000"/>
                <a:ext cx="25192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239840" y="3989520"/>
                <a:ext cx="100800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287440" y="4005360"/>
                <a:ext cx="10083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452840" y="3978360"/>
                <a:ext cx="10080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5519880" y="3965400"/>
                <a:ext cx="10062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800280" y="4737240"/>
            <a:ext cx="25365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75120" y="4740120"/>
            <a:ext cx="25369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647720" y="4867200"/>
                <a:ext cx="6159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247840" y="4692600"/>
                <a:ext cx="14004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859280" y="4851360"/>
                <a:ext cx="6159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5402160" y="4694400"/>
                <a:ext cx="14018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936720" y="1708200"/>
                <a:ext cx="45511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 Quadratic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971640" y="2527200"/>
                <a:ext cx="509256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the eq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325520" y="2739960"/>
                <a:ext cx="5605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225960" y="2757600"/>
                <a:ext cx="5601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847880" y="2589120"/>
                <a:ext cx="10080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830760" y="2600280"/>
                <a:ext cx="10080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792000" y="3419640"/>
                <a:ext cx="24638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998880" y="3375000"/>
                <a:ext cx="24638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239840" y="3959280"/>
                <a:ext cx="100800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287440" y="3960720"/>
                <a:ext cx="10083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425840" y="4005360"/>
                <a:ext cx="10638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492880" y="3994200"/>
                <a:ext cx="10620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800280" y="4737240"/>
            <a:ext cx="25365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75120" y="4740120"/>
            <a:ext cx="25369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647720" y="4867200"/>
                <a:ext cx="6159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249640" y="4708440"/>
                <a:ext cx="10634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859280" y="4851360"/>
                <a:ext cx="6159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5570640" y="4722840"/>
                <a:ext cx="10652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055520" y="1708200"/>
                <a:ext cx="4311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 Quadratic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971640" y="2527200"/>
                <a:ext cx="509256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the eq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325520" y="2739960"/>
                <a:ext cx="5605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225960" y="2757600"/>
                <a:ext cx="5601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805040" y="2570040"/>
                <a:ext cx="10634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855960" y="2584440"/>
                <a:ext cx="8953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92000" y="3419640"/>
                <a:ext cx="24638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054320" y="3375000"/>
                <a:ext cx="23511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239840" y="3986280"/>
                <a:ext cx="10080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287440" y="3987720"/>
                <a:ext cx="10083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4510080" y="4005360"/>
                <a:ext cx="8953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576760" y="3994200"/>
                <a:ext cx="8938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800280" y="4737240"/>
            <a:ext cx="25365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75120" y="4740120"/>
            <a:ext cx="25369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647720" y="4867200"/>
                <a:ext cx="6159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190600" y="4689360"/>
                <a:ext cx="1455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859280" y="4851360"/>
                <a:ext cx="6159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397480" y="4722840"/>
                <a:ext cx="9525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000"/>
                            </p:stCondLst>
                            <p:childTnLst>
                              <p:par>
                                <p:cTn id="7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500"/>
                            </p:stCondLst>
                            <p:childTnLst>
                              <p:par>
                                <p:cTn id="7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CSS</cp:lastModifiedBy>
  <dcterms:modified xsi:type="dcterms:W3CDTF">2003-02-05T14:55:42Z</dcterms:modified>
  <cp:revision>9</cp:revision>
  <dc:subject/>
  <dc:title>Slide 1</dc:title>
</cp:coreProperties>
</file>